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move the slid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7890B-F8CC-4E36-93D8-AD3C7C8B6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fore sending an RTS [request to send] the node waits between a random period 0 and di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SR lost most of the packets due to queue over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is not the deadline specified in the send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a messsage from I to d. then j is in FS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oice of the node from the viable candidate set is made based on the highest rel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OD and DSR do not perform well under con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6D6-5020-4168-A0AD-41A8858C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02F-5E3F-4787-A8A8-5745657D3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5A7-E741-4406-8496-D786D8F7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0DCA-9F77-4C02-BA03-1A8C2046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1CA9-2422-4291-8ACC-0E42DA50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75499-61FF-4F72-8E92-CA4B35BB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F319-D0FC-44FB-87FC-DF9F5722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CCB12-B811-43C9-A329-465F8D4B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2C46C-6CA6-4DE1-8FA9-F3B6A8E3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20E34-FD75-4741-B4D8-2A57FE31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0497-49DC-4B5D-8E9E-50677683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1617-1B8B-4751-9F8E-ECF0A7CA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026D-9FDC-4001-9249-9D21B6CC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C64A3-32DF-4BFA-B051-06E439C0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EA71-5283-4712-8E01-8BC17B1F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4F23-6B7F-42E3-9A4B-7D17F095E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32767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13920"/>
            <a:ext cx="250236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9D58-B52B-4FDC-9053-C84B0B8C8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6D5C-5675-4AB0-9C2D-6D372EA3E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235A-60ED-4B30-BB0A-8E16F783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A0E-9554-49D2-A7F8-75DBDE4E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6F95-A3FA-42A3-8A86-7056B59A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F035-13B2-449D-B02B-874D044C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139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0EF2-7F55-4499-8F98-22EBCF72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3276720"/>
            <a:ext cx="3792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392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8F5-34A7-4776-B9DE-86B6C85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3A686-8CAE-4163-BE92-40C909675D1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688FB-064D-4F6D-813F-D2D1A95D20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and SPEED 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ed by Octav Chipa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Location-Address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ectionless transport 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ress is based on geographic lo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i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Geographic forward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eedy algorith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s the node with the shortest geographic distance to the packet’s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every step the packet gets closer to the desti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s really good for high density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CFS policy is generally used in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rks poorly for realtime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is both deadline and distance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signs priority based on the requested velo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higher velocity denotes higher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Velocity Monotonic Scheduling(2)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flav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c monotonic velocity (S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namic monotonic velocity (DMV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=dist(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x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y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/(D-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AC –layer prioritiz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communicating multiple host compete for the shared med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802.11b all messages have the same prio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enforce packet prioritization MAC protocols should provide distributed prioritization on packets from different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can changed two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you can wait after id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S = BASE_DIFS * PRIO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off increase fun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W=CW*(2 + (PRIORITY-1)/MAX_PRIOR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xperi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uting protoc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ynamic Source Routing (DS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iginally designed for ID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ion based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hedu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CF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 – fixed priority based on their e2e dead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locity Schedu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V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Overall Miss Ratio of GF/DSR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Impact of scheduling on deadline misses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85800" y="182880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tate of the art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ly a few real-time algorithms exist for sensor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ing based on sensor’s 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PS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D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ealtime System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cerned with two asp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ation regarding the immediate neighb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ft Real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uniform speed delivery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is this uniform speed guaranteed globally or piece-w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 why would the application want something like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nimum MAC Layer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ffic load-balanc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lized behavi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peed Protocol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beacon exchange 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estimation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less nondeterministic geographic forwarding algorith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feedback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ckbone rero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id avoid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st mile process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MulticastSend(position,radius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all nodes in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AnyCastSend(position,radius,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s a message to at least one node inside the specified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castSend(Global_ID, pack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a message to the specified ID (id is given by its geographic posi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edReceive(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API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re is the time constrai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PEED aims at providing a uniform packet delivery speed across the sensor network, so that the end-to-end delay of a packet is proportional to the distance between the source and destination. With this service, real-time applications can estimate end-to-end delay before making admission decisions. Delay differentiation for different classes of packets is left as future work.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if the velocity is imposed piece wise how can we give end-to end guarante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Q: By distance we mean Euclidian distance or the Euclidian distance of the pat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72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beacon exchange scheme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odically broadcasts a beacon to neighbors to exchange loc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reduce traffic we can piggyback th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enhancem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dvertising state changes may reduce number of beac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-demand beac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ay esti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ck pressure press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eld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ighbor 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 To De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to scarce bandwidth cannot use probe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s measured at the sender as the difference between when the packet was queued and its ACK and the processing time on the receiver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eps track of multiple data points to compute the current delay using (EWMA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alavg = intervalavg + w * er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is the refresh time sample from this pack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rr = I - intervalav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 is the smoothing consta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lay estimation algorithm 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lay estimation beacon is used to communicate to other neighbors the estimated de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pe to make a set of neighboring nodes react to changes in traffic patters [avoid congestion]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GF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5943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ighbor set of node 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warding candidate 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 = d(i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next = d(next, destin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ay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rcRect l="17657" t="0" r="19173" b="0"/>
          <a:stretch/>
        </p:blipFill>
        <p:spPr>
          <a:xfrm>
            <a:off x="5638680" y="4425840"/>
            <a:ext cx="3505320" cy="2432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0" y="0"/>
                <a:ext cx="27338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1676520" y="3200400"/>
                <a:ext cx="42670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676520" y="2362320"/>
                <a:ext cx="281916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n</m:t>
                        </m:r>
                        <m:r>
                          <m:t xml:space="preserve">|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rPr>
                            <m:lit/>
                            <m:nor/>
                          </m:rPr>
                          <m:t xml:space="preserve">range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228600" y="533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600200" y="5105520"/>
                <a:ext cx="30211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Speed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j</m:t>
                        </m:r>
                      </m:sup>
                    </m:sSubSup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estination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ext</m:t>
                        </m:r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opDela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j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2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FSi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(|Viable| &gt; 0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didate=choose(Viable(FSi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o candid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no nodes to support Ssetpoint downstream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 if a random chosen between (0,1) i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igger than the relay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op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pressure beacon up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447920" y="2057400"/>
                <a:ext cx="441936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iable</m:t>
                    </m:r>
                    <m:r>
                      <m:t xml:space="preserve">(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F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j</m:t>
                        </m:r>
                        <m:r>
                          <m:t xml:space="preserve">∈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pee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i</m:t>
                            </m:r>
                          </m:sup>
                        </m:sSub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est</m:t>
                        </m:r>
                        <m:r>
                          <m:t xml:space="preserve">)</m:t>
                        </m:r>
                        <m:r>
                          <m:t xml:space="preserve">≥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etpoint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nso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ed mem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C layer may provide Q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arce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ids exi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y intens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unication generates congestion hot-sp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nd-to-end communication time depends on single-hop delay and the distance it has to tra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SNFG(3)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lay Bound = L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/ S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e2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end-to-end Euclidian distance measur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setpoi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speed maintained across th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messages have the same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this really mean we can enforce a deadli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intain a single hop speed above a desired Ssetpoi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etpoint is a network wide parameter that tunes how harsh the realtime requirements 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985f"/>
                </a:solidFill>
                <a:latin typeface="Arial"/>
              </a:rPr>
              <a:t>Neighbor feedback loop</a:t>
            </a:r>
            <a:endParaRPr b="0" i="1" lang="en-US" sz="36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rcRect l="8625" t="0" r="0" b="0"/>
          <a:stretch/>
        </p:blipFill>
        <p:spPr>
          <a:xfrm>
            <a:off x="1143000" y="2286000"/>
            <a:ext cx="6781680" cy="29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Back pressure rerouting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routing due to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ongested area is detected and the probability of sending to that node is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s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ybe reinforcement should refer to a geographic area rather than a nod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5410080" y="4673520"/>
            <a:ext cx="373392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Void avoidance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ds occur if the density is not high enou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als with voids similarly to hotspots by applying backbone press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ral packets may be dropped when trying to avoid a v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5029200" y="4875120"/>
            <a:ext cx="411480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985f"/>
                </a:solidFill>
                <a:latin typeface="Arial"/>
              </a:rPr>
              <a:t>Last mile processing</a:t>
            </a:r>
            <a:endParaRPr b="0" i="1" lang="en-US" sz="40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ssing close to the destination ar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any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a multica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E2E Miss Ratio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setpoint = 1km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2e deadline = 200 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rotocol Evaluation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743200" y="1676520"/>
            <a:ext cx="4419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Improving Speed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Possible  Improvement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ow the application to specify different sp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ine speed and ra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nge the MAC layer to support priority sending messages with different prior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scheduling policy to us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 messages dropp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Modeling the sensor network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ght integration with the physical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cation aw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patter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coordin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sors coordinate with one another [usually by defining a group] in order to aggregat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volves a small number of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sor-base communicati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data from the local group to the base s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quires multiple h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stions?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2767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Contribution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igh level architecture for large wireless netwo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ility to define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en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ty Monotonic Scheduling (V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olicy for scheduling packets in a sensor net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Design Goals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APIs for micro-sensing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 the number of packets meeting their e2e dead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le well to large number of nodes and ho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e minimum communication overh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RAP Stack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2209680"/>
            <a:ext cx="594360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85f"/>
                </a:solidFill>
                <a:latin typeface="Arial"/>
              </a:rPr>
              <a:t>Query/Event Service API</a:t>
            </a:r>
            <a:endParaRPr b="0" i="1" lang="en-US" sz="4400" spc="-1" strike="noStrike">
              <a:solidFill>
                <a:srgbClr val="ff985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ry {attribute list, area, time constraints, querier location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er {event, area, query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iodically the results will be send back to the que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ochipara</cp:lastModifiedBy>
  <cp:lastPrinted>1904-01-01T00:00:00Z</cp:lastPrinted>
  <dcterms:modified xsi:type="dcterms:W3CDTF">2003-09-12T21:53:18Z</dcterms:modified>
  <cp:revision>123</cp:revision>
  <dc:subject/>
  <dc:title>PowerPoint Presentation</dc:title>
</cp:coreProperties>
</file>